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3.wmf" ContentType="image/x-wmf"/>
  <Override PartName="/ppt/media/image25.wmf" ContentType="image/x-wmf"/>
  <Override PartName="/ppt/media/image24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7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28.png" ContentType="image/png"/>
  <Override PartName="/ppt/media/image5.png" ContentType="image/png"/>
  <Override PartName="/ppt/media/image30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33.png" ContentType="image/png"/>
  <Override PartName="/ppt/media/image16.wmf" ContentType="image/x-wmf"/>
  <Override PartName="/ppt/media/image6.wmf" ContentType="image/x-wmf"/>
  <Override PartName="/ppt/media/image4.png" ContentType="image/png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5FF3-CA6F-45FD-A6B4-03DBC524E1A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F3EE-1D74-4C4A-860E-7567C47B1DB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That is the DEFİNİTİON OF THE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2A6F-0839-4AB9-8895-C48107D1375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SEGMENTATİON WİLL BE EXPLAİNED İN DETAİL İN THE ENGİNEERİNG APPROACH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1F50-A802-4283-AC28-40457826850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3. RESPONSABİLİTY OF MARKETİNG DECİSİON MAKERS. Chanels:MAIL,COMMUNİCATION CENTRE, PERSONALİZED CONTA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DA91-288A-4A9A-94D3-5089CF00EC6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HAT KİNG OF OFFER, PROMOTİON?  !!!Define Promotion: sale,discount,freesamples, coupons!!!!! Structure: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EB35-04BA-4EF0-9B5A-B39E36D9143D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SEGMENTATİON PERFORMED, STRATEGİES DEFİNED, DECİSİONS TAKEN, NOW TES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NDERSTANDG REAL BEHAVIOURS, MINIMIZE ERRORS, CHECK CORECTNESS, PREDİCT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490E-F2FC-4379-989F-828ACD2C25E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SEGMENTATİON PERFORMED, STRATEGİES DEFİNED, DECİSİONS TAKEN, NOW TES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NDERSTANDG REAL BEHAVIOURS, MINIMIZE ERRORS, CHECK CORECTNESS, PREDİCT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72FC-DB66-471A-B153-77114199993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Evaluate customer behaviour customer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B5B6-0CAE-4D6B-A7A0-3DD80CE3485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125—291= increase cost e mail more people              125---100 reduce cost but change RFM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5026-1F4B-40E8-A9AD-C06DC64CA10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Also tell about why crm is needed: change in customers, change in market place, change in technology, globalisation, deregulation, advances i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7B89-0F96-465F-B487-35F9C92AA22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They have same share of wallet but different size of wal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0AC8-1B41-4C16-9C41-FA3C6F69381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Think horizantal, diagolade retention rate. Different combinations: AA, BA, CA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466D-7847-467F-B29D-F13DF782DF6D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İNFORMATİON BASED STRATEGİES, KNOWLEDGE DRİVEN BUSİNESS!!  Data warehouses, datasources, data m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6752-C99F-4275-BB83-5E1671EE703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İNFORMATİON BASED STRATEGİES, KNOWLEDGE DRİVEN BUSİNESS!!  Data warehouses, datasources, data m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69CD-E28E-4968-940C-31A3DBF1415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İNFORMATİON BASED STRATEGİES, KNOWLEDGE DRİVEN BUSİNESS!!  Data warehouses, datasources, data m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CB22-5C33-4B24-9A09-41D56D8F1DF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İNFORMATİON BASED STRATEGİES, KNOWLEDGE DRİVEN BUSİNESS!!  Data warehouses, datasources, data m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2267-AA97-4E6E-BD43-5D167755B79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İNFORMATİON BASED STRATEGİES, KNOWLEDGE DRİVEN BUSİNESS!!  Data warehouses, datasources, data m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7CB2-6C4C-42C8-B509-84419DE219C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İNFORMATİON BASED STRATEGİES, KNOWLEDGE DRİVEN BUSİNESS!!  Data warehouses, datasources, data m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840E-8118-480E-A9E6-C833ED69C63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İNFORMATİON BASED STRATEGİES, KNOWLEDGE DRİVEN BUSİNESS!!  Data warehouses, datasources, data m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651D-7AFF-42E7-B7AF-DCDDB6BC7D7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DEVELOPING CAMPAIGNS TO REACH RIGHT CUSTOMER, IN RIGHT TIME, BY RIGHT OFFER, THROUGH RIGHT CHANNEL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270B-56B5-4A8E-A306-7740E05DEB7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SALES FORCE MANAGEMENT DAN BAHSET + CAMPAİGN MGMT NECESSİTATES COLLABORATİON BETWEEN MARKETİNG AND OPERATİ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0408-FE89-4266-B855-E8B03C27B2E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STRATEGİC DECİSİONS: WHOM TO TARGET, WHAT TO OFFER,WHEN TO OFFER (bayram, yılbası), HOW TO OFFER other strategic decisions are in the next 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7C9-9AA9-4033-B2DB-7375DAA4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F02-51D1-4E12-A192-42772886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3D6-66C9-458C-B7C0-E4D735BC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587-24CE-4871-8468-E1267761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A37-A176-4D86-B05D-DC6363FD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CDF-10A1-4E75-8DA9-19CC0F17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804-0A4A-424E-9FC6-BE1FD781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6673-61C4-495C-B3EE-9013D228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5AD-99AA-49AA-BEFA-47661262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717-EE85-43C8-B834-92D26967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1A2-1863-458D-A904-C795C6D6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92C-5689-4295-9444-F91D3ACC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A819-B1CF-44AE-8932-FCAC39401D6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A812-6F0D-45C9-A6EE-3D7623AA6708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xp-turk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400" spc="-1" strike="noStrike">
                <a:solidFill>
                  <a:srgbClr val="333399"/>
                </a:solidFill>
                <a:latin typeface="Arial"/>
              </a:rPr>
              <a:t>CRM and Information Visualiz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CA01-5261-4E4A-9E01-65829EF7484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211640" y="1916280"/>
            <a:ext cx="4753080" cy="1800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79280" y="11592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ampaign Management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Step 1: Define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252360" y="1916280"/>
            <a:ext cx="302256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Targ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Existing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200" spc="-1" strike="noStrike">
                <a:solidFill>
                  <a:srgbClr val="000000"/>
                </a:solidFill>
                <a:latin typeface="Arial"/>
              </a:rPr>
              <a:t>Retention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360680" y="1916280"/>
            <a:ext cx="253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Creating Loyalt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362840" y="2565360"/>
            <a:ext cx="457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Increasing the satisfaction lev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332240" y="3146400"/>
            <a:ext cx="390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Cross-selling or Up-sell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 rot="10800000">
            <a:off x="3274920" y="2420640"/>
            <a:ext cx="936720" cy="647640"/>
          </a:xfrm>
          <a:prstGeom prst="leftArrow">
            <a:avLst>
              <a:gd name="adj1" fmla="val 50000"/>
              <a:gd name="adj2" fmla="val 3615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4210200" y="4076640"/>
            <a:ext cx="4752720" cy="180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250920" y="4076640"/>
            <a:ext cx="3022560" cy="18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Targ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New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200" spc="-1" strike="noStrike">
                <a:solidFill>
                  <a:srgbClr val="000000"/>
                </a:solidFill>
                <a:latin typeface="Arial"/>
              </a:rPr>
              <a:t>Acquisition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354560" y="4329000"/>
            <a:ext cx="44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arget customers that show  characterstics similar to existing groups of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 rot="10800000">
            <a:off x="3273480" y="4581360"/>
            <a:ext cx="936720" cy="648000"/>
          </a:xfrm>
          <a:prstGeom prst="leftArrow">
            <a:avLst>
              <a:gd name="adj1" fmla="val 50000"/>
              <a:gd name="adj2" fmla="val 3613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BCDE-6871-4BAD-BB81-234B0C9F897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erform SEG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fine the right custom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se information of past transactions as key for making predicting future 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fine the segments and their character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velop customized marketing strategies for the different seg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79280" y="11592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ampaign Management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Step 2: Identify Cust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3E27-0EFF-44FE-99ED-6F6E0CCBFF8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79280" y="11592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ampaign Management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Step 3: Communication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message should be transmit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channel should be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94E6-00A7-4526-9396-282E84FAC19A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199872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alyze the price, time period, risks, marketing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fine the product / offer / service / promotion and its general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dentify effective use of sales and communication channel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79280" y="341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ampaign Management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Step 4: Design the Products, Offers, 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Services and Pro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9C41-5C12-4103-82EC-F00BD8E4A9B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79280" y="11592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ampaign Management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Step 5: Test the Imp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68360" y="1628640"/>
            <a:ext cx="8496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mpacts of the decisions have to b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ested and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d assess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a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71EB-15C7-4427-99D2-5724E5C1B818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79280" y="11592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ampaign Management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Step 6: Revise the Dec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68360" y="1639800"/>
            <a:ext cx="8496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ake revisions to the targeted offer / service / promo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inally apply the decisions to the whole segment or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2D82-CEF4-4D7F-B369-1940B23D019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romosyon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24000" y="189000"/>
            <a:ext cx="8496000" cy="64580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5"/>
          <p:cNvSpPr/>
          <p:nvPr/>
        </p:nvSpPr>
        <p:spPr>
          <a:xfrm>
            <a:off x="5435640" y="2349360"/>
            <a:ext cx="2016000" cy="11509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46F7-9C81-4236-8DE4-1461BFB8E9E8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orjinalCD"/>
          <p:cNvPicPr/>
          <p:nvPr/>
        </p:nvPicPr>
        <p:blipFill>
          <a:blip r:embed="rId1"/>
          <a:stretch/>
        </p:blipFill>
        <p:spPr>
          <a:xfrm>
            <a:off x="1293840" y="0"/>
            <a:ext cx="6626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B9BF-122F-4B19-B8AD-6F9BAAE0E06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RFM Method</a:t>
            </a:r>
            <a:br>
              <a:rPr sz="3600"/>
            </a:b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(Recency, Frequency, Monetary Value )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68360" y="1639800"/>
            <a:ext cx="8496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c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When was the last customer inter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ow frequent was the customer in its interactions with the busin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netary value of the intera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23B1-D26A-4BAB-8A81-0FE0A2D2178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80360" cy="4464360"/>
          </a:xfrm>
          <a:prstGeom prst="rect">
            <a:avLst/>
          </a:prstGeom>
          <a:solidFill>
            <a:srgbClr val="ccecff"/>
          </a:solidFill>
          <a:ln w="7632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arketing Problem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 firm has sent e-mail to 30,000 of its existing customers, announcing a promotion of $100. 458 of them responded (1.52% of the custome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s there any relation between the responding customers and their historical purchasing behaviour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RFM Method</a:t>
            </a:r>
            <a:br>
              <a:rPr sz="3600"/>
            </a:b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(Recency, Frequency, Monetary Value )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CE51-0ACC-4359-B2C6-A01B00617A9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ustomer Relationship </a:t>
            </a:r>
            <a:br>
              <a:rPr sz="3600"/>
            </a:b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Management (CRM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2360" y="1349280"/>
          <a:ext cx="8712360" cy="5326200"/>
        </p:xfrm>
        <a:graphic>
          <a:graphicData uri="http://schemas.openxmlformats.org/drawingml/2006/table">
            <a:tbl>
              <a:tblPr/>
              <a:tblGrid>
                <a:gridCol w="4176720"/>
                <a:gridCol w="453564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 Marke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:</a:t>
                      </a: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pand customer base, increase market share by mass marke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:</a:t>
                      </a: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stablish a profitable, long-term, one-to-one relationship with customers; understanding their needs, preferences, expec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oriented vie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oriented vie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marketing / mass produ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customization, one-to-one marke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zation of customer nee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-supplier relatio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al relatio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onal approa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F585-44D5-4081-A878-94E4B511AD3B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RFM Method: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Recency Co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30,000 customers are sorted in descending order with respect to their most recent purch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rted data is divided into 5 equal groups, each of them containing 6,000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cency codes are assigned: Top group has code 5, bottom group has code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04FD-BC0D-4316-8F4F-901349734DA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-181080" y="549360"/>
          <a:ext cx="561816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549360"/>
                    <a:ext cx="561816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140360" y="1341360"/>
            <a:ext cx="4619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cency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According to analysis based on customer recency, the group having the highest recency group has also the highest response ra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Remark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(3.10% + 2.00% + 1.50% + 0.62% + 0.38) / 5= 1,52% which is the response ra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Strict Rule: Ones who have purchased recently are much more willing to buy new products than others purchasing in the past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RFM Method: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Recency Co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F5FA-0F04-4BDE-BC42-82721AA5F23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4920" y="1539720"/>
            <a:ext cx="8497800" cy="50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rt the 30,000 customers with respect to frequency metric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Frequency metrics: Average number of purchases made by customer in a time period </a:t>
            </a:r>
            <a:r>
              <a:rPr b="1" i="1" lang="tr-TR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Sort customers in descending order with respect to their purchase frequency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ssign them to 5 groups, top %20 in the first frequency group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ssign frequency codes such that the top group has code 5 and the bottom group has code 1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RFM Method: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Frequency Co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2D0A-4700-496C-A3CA-8A103B0F6FF4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RFM Method: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Frequency Co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-108000" y="115920"/>
          <a:ext cx="504360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115920"/>
                    <a:ext cx="504360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0" y="1134720"/>
            <a:ext cx="428472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requency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It is observed that highest response rate is from the customers having highest frequen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Frequent people respond better than less frequent ones but differences between groups are less than the ones in the recen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The lowest frequency group always contains new customer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That is why it is named RF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BDC2-650A-439E-9A31-451DCFF3897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he same process as recency and frequency co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rting is done with respect to monetary value metr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onetary value metric is the average amount purchased in a time period </a:t>
            </a: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t the end of the monetary value coding, assign monetary value codes M = 1,...,5 to groups according to their group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RFM Method: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Monetary Value Co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5819-FAF8-47CE-A966-B6E10BE3F37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0" y="115920"/>
          <a:ext cx="504360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5920"/>
                    <a:ext cx="504360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859280" y="1483920"/>
            <a:ext cx="403848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requency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It is observed that highest response rate is from the customers having highest monetary val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Unlike the recency case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there are not big differences between group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RFM Method: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Monetary Value Co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92DC-A6F3-47B3-BE59-3054E655D23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72720"/>
            <a:ext cx="867564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RFM Method: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Putting the Codes Toge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47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t the end of the monetary coding firm obtain R F M metrics for customers. Each customer belongs to one of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125 possible combinations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of the RFM val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370560" y="4581360"/>
            <a:ext cx="79236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370560" y="5445000"/>
            <a:ext cx="86544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6370560" y="6310440"/>
            <a:ext cx="86364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1833480" y="4797360"/>
            <a:ext cx="432000" cy="216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2554200" y="4797360"/>
            <a:ext cx="503280" cy="216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3346560" y="4797360"/>
            <a:ext cx="504720" cy="216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4138560" y="4797360"/>
            <a:ext cx="504720" cy="216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4930920" y="4797360"/>
            <a:ext cx="502920" cy="216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 flipH="1">
            <a:off x="2193480" y="4292640"/>
            <a:ext cx="1079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 flipH="1">
            <a:off x="2914200" y="4292640"/>
            <a:ext cx="35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3346560" y="4292640"/>
            <a:ext cx="215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3417840" y="429264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>
            <a:off x="3489480" y="4292640"/>
            <a:ext cx="1512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1762200" y="5661000"/>
            <a:ext cx="503280" cy="216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8"/>
          <p:cNvSpPr/>
          <p:nvPr/>
        </p:nvSpPr>
        <p:spPr>
          <a:xfrm>
            <a:off x="2625840" y="5661000"/>
            <a:ext cx="504720" cy="216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9"/>
          <p:cNvSpPr/>
          <p:nvPr/>
        </p:nvSpPr>
        <p:spPr>
          <a:xfrm>
            <a:off x="3489480" y="5661000"/>
            <a:ext cx="504720" cy="216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0"/>
          <p:cNvSpPr/>
          <p:nvPr/>
        </p:nvSpPr>
        <p:spPr>
          <a:xfrm>
            <a:off x="4354560" y="5661000"/>
            <a:ext cx="503280" cy="216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1"/>
          <p:cNvSpPr/>
          <p:nvPr/>
        </p:nvSpPr>
        <p:spPr>
          <a:xfrm>
            <a:off x="5218200" y="5661000"/>
            <a:ext cx="504720" cy="2174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 flipH="1">
            <a:off x="2049480" y="501336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3"/>
          <p:cNvSpPr/>
          <p:nvPr/>
        </p:nvSpPr>
        <p:spPr>
          <a:xfrm>
            <a:off x="2770200" y="501336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4"/>
          <p:cNvSpPr/>
          <p:nvPr/>
        </p:nvSpPr>
        <p:spPr>
          <a:xfrm>
            <a:off x="2770200" y="501336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2770200" y="5013360"/>
            <a:ext cx="172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6"/>
          <p:cNvSpPr/>
          <p:nvPr/>
        </p:nvSpPr>
        <p:spPr>
          <a:xfrm>
            <a:off x="2770200" y="5013360"/>
            <a:ext cx="25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762200" y="6381720"/>
            <a:ext cx="576360" cy="287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2625840" y="6381720"/>
            <a:ext cx="504720" cy="287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3489480" y="6381720"/>
            <a:ext cx="504720" cy="287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2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4425840" y="6381720"/>
            <a:ext cx="505080" cy="287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2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1"/>
          <p:cNvSpPr/>
          <p:nvPr/>
        </p:nvSpPr>
        <p:spPr>
          <a:xfrm>
            <a:off x="5362560" y="6381720"/>
            <a:ext cx="576360" cy="360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2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2"/>
          <p:cNvSpPr/>
          <p:nvPr/>
        </p:nvSpPr>
        <p:spPr>
          <a:xfrm flipH="1">
            <a:off x="2193480" y="5877000"/>
            <a:ext cx="1513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3"/>
          <p:cNvSpPr/>
          <p:nvPr/>
        </p:nvSpPr>
        <p:spPr>
          <a:xfrm flipH="1">
            <a:off x="2986200" y="5877000"/>
            <a:ext cx="720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4"/>
          <p:cNvSpPr/>
          <p:nvPr/>
        </p:nvSpPr>
        <p:spPr>
          <a:xfrm>
            <a:off x="370692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5"/>
          <p:cNvSpPr/>
          <p:nvPr/>
        </p:nvSpPr>
        <p:spPr>
          <a:xfrm>
            <a:off x="3706920" y="587700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6"/>
          <p:cNvSpPr/>
          <p:nvPr/>
        </p:nvSpPr>
        <p:spPr>
          <a:xfrm>
            <a:off x="3706920" y="5877000"/>
            <a:ext cx="1726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7"/>
          <p:cNvSpPr/>
          <p:nvPr/>
        </p:nvSpPr>
        <p:spPr>
          <a:xfrm>
            <a:off x="2843280" y="3429000"/>
            <a:ext cx="1081080" cy="93672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6D5B-BD59-4E40-836B-7D81A0C277A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reate 3 digits RFM codes ce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l cells having the same number of customers in th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FM values are used to define group of customers that marketing campaign should target or should avo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sed for identifying customers having high probability to respond to campaign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555’s response rate &gt; 552’s &gt; 543’s &gt;541.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ncrease the response 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ncrease profit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RFM Method: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0FDC-11B6-47B5-B6C5-0F3F7F4A99E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ustomer Value Metr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1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ritical measures used to define customer worth in knowledge-driven and customer-focused market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ADEE-34CB-4742-BE9C-941E956D7D94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ustomer Value Metrics: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Size of Wall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99ff"/>
                </a:solidFill>
                <a:latin typeface="Arial"/>
              </a:rPr>
              <a:t>Size of wallet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ssumption: Firms prefer customers with large size of wallet in order to retain large revenues and prof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3562200" y="1557360"/>
                <a:ext cx="9385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1332000" y="2682720"/>
                <a:ext cx="7920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6"/>
          <p:cNvSpPr/>
          <p:nvPr/>
        </p:nvSpPr>
        <p:spPr>
          <a:xfrm>
            <a:off x="2120040" y="275580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Sales to focal customer by firm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30B4-79C2-4151-B51C-F79A504EE64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99ff"/>
                </a:solidFill>
                <a:latin typeface="Arial"/>
              </a:rPr>
              <a:t>“</a:t>
            </a:r>
            <a:r>
              <a:rPr b="1" lang="tr-TR" sz="2800" spc="-1" strike="noStrike">
                <a:solidFill>
                  <a:srgbClr val="3399ff"/>
                </a:solidFill>
                <a:latin typeface="Arial"/>
              </a:rPr>
              <a:t>The approach of identifying, establishing, maintaining, and enhancing lasting relationships with customers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99ff"/>
                </a:solidFill>
                <a:latin typeface="Arial"/>
              </a:rPr>
              <a:t>“</a:t>
            </a:r>
            <a:r>
              <a:rPr b="1" lang="tr-TR" sz="2800" spc="-1" strike="noStrike">
                <a:solidFill>
                  <a:srgbClr val="3399ff"/>
                </a:solidFill>
                <a:latin typeface="Arial"/>
              </a:rPr>
              <a:t>The formation of </a:t>
            </a:r>
            <a:r>
              <a:rPr b="1" i="1" lang="tr-TR" sz="2800" spc="-1" strike="noStrike">
                <a:solidFill>
                  <a:srgbClr val="3399ff"/>
                </a:solidFill>
                <a:latin typeface="Arial"/>
              </a:rPr>
              <a:t>bonds </a:t>
            </a:r>
            <a:r>
              <a:rPr b="1" lang="tr-TR" sz="2800" spc="-1" strike="noStrike">
                <a:solidFill>
                  <a:srgbClr val="3399ff"/>
                </a:solidFill>
                <a:latin typeface="Arial"/>
              </a:rPr>
              <a:t>between a company and its customers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457200" y="12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RM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0B13-F340-4AFC-B788-0E02DD30E9C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ustomer Value Metric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ividual Share of Wallet (SW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 proportion expressed in terms of percentage, calculated among </a:t>
            </a: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buy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easured at individual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 measure of loyal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an be used in future predi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ifferent from the “market share”, which also considers customers with no purch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99ff"/>
                </a:solidFill>
                <a:latin typeface="Arial"/>
              </a:rPr>
              <a:t>Individual share of wallet %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5724360" y="4869000"/>
                <a:ext cx="1025640" cy="16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558720" y="6283440"/>
                <a:ext cx="7923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Text Box 6"/>
          <p:cNvSpPr/>
          <p:nvPr/>
        </p:nvSpPr>
        <p:spPr>
          <a:xfrm>
            <a:off x="1274040" y="635472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Sales to focal customer by firm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FFC2-1B07-4D0C-8310-D06E9E5BE35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ustomer Value Metr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476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hare of wallet and size of wallet should be analyzed together because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42800" y="3068640"/>
          <a:ext cx="8232840" cy="2523960"/>
        </p:xfrm>
        <a:graphic>
          <a:graphicData uri="http://schemas.openxmlformats.org/drawingml/2006/table">
            <a:tbl>
              <a:tblPr/>
              <a:tblGrid>
                <a:gridCol w="2232000"/>
                <a:gridCol w="2000520"/>
                <a:gridCol w="2000160"/>
                <a:gridCol w="2000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 of Wal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of Wal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ch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8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1B2B-BFE6-4562-A1BB-24A36660B48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ustomer Value Metrics:</a:t>
            </a:r>
            <a:br>
              <a:rPr sz="3600"/>
            </a:b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Transition Matri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60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hows expected share of wallet from multiple brand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picts consumer’s willingness to buy over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ition probability from B to A, than from A to C: 10%*20% = 2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71640" y="4365720"/>
          <a:ext cx="7345440" cy="2286000"/>
        </p:xfrm>
        <a:graphic>
          <a:graphicData uri="http://schemas.openxmlformats.org/drawingml/2006/table">
            <a:tbl>
              <a:tblPr/>
              <a:tblGrid>
                <a:gridCol w="1834920"/>
                <a:gridCol w="1838520"/>
                <a:gridCol w="1836720"/>
                <a:gridCol w="183528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873E-BA25-4794-BDAA-5C22938C60F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79280" y="84600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he Engineering Perspective</a:t>
            </a:r>
            <a:br>
              <a:rPr sz="3600"/>
            </a:br>
            <a:br>
              <a:rPr sz="3600"/>
            </a:b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DATA M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56000" y="292428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7243-5EB7-414D-AC2A-0AF2AECDBF5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ollection, storage, and analysis of –typically huge amounts of-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ta readily resides in the company’s data wareho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ta cleaning is almost inevi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79280" y="11592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Data M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BDE8-03BC-42B0-9A9F-9B8838406E74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oals of Data M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veloping deeper understanding of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iscovering hidden patter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oming up with actionable insigh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dentifying relations between variables, inputs and outpu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redicting future patter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79280" y="11592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Data M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E762-15C3-4978-B04C-FF220C07CB8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ta se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ta clea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imensionality re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ta mining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79280" y="11592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Data Mining: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07B9-4253-485D-9512-393E85AF046A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xploratory Data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luster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ecision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arket Basket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ssociation r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nformation Visua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Neural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ime Series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79280" y="11592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Data Mining:</a:t>
            </a:r>
            <a:br>
              <a:rPr sz="3600"/>
            </a:b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B2A2-B60B-4667-B27E-A42E6942326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Information Visual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Data mining algorithms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Can only detect certain types of patterns and insigh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Are too complex for end users to understa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C42A-C860-4873-8ABA-E832164A211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Information Visual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277640"/>
            <a:ext cx="78487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 field of Computer Science which has evolved since the 1990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efore 1990s: Graphical methods for data analysis to pave the way for statistical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fter 1990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omputer hardware has advanced with respect to memory, computational power, graphics calcu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ftware has advanced with respect to user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ta collection systems have advanced (barcodes, RFID, ER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5A5D-4801-4AF1-A341-50CCC1A9E93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rospecting (of first-time consume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ross-selling / Up-se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Win back or Sa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79280" y="125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Strategies in </a:t>
            </a: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RM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for Mass Custo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231A-FD0E-4722-8E8B-85D0ED906AAB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24000" y="171288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he analyst does not have to understand complex algorith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most no training requir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here are no limits to the types of insights that can be discover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j0200275"/>
          <p:cNvPicPr/>
          <p:nvPr/>
        </p:nvPicPr>
        <p:blipFill>
          <a:blip r:embed="rId1"/>
          <a:stretch/>
        </p:blipFill>
        <p:spPr>
          <a:xfrm>
            <a:off x="5867280" y="1600200"/>
            <a:ext cx="2667240" cy="1606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j0233016"/>
          <p:cNvPicPr/>
          <p:nvPr/>
        </p:nvPicPr>
        <p:blipFill>
          <a:blip r:embed="rId2"/>
          <a:stretch/>
        </p:blipFill>
        <p:spPr>
          <a:xfrm>
            <a:off x="6019920" y="3581280"/>
            <a:ext cx="2714400" cy="271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Information Visual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F44C-FA5E-4416-B29F-E61FCCCD2F0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Case Studies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Analysis of Supermarket 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Sales Dat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3" descr="marketBasket"/>
          <p:cNvPicPr/>
          <p:nvPr/>
        </p:nvPicPr>
        <p:blipFill>
          <a:blip r:embed="rId1"/>
          <a:stretch/>
        </p:blipFill>
        <p:spPr>
          <a:xfrm>
            <a:off x="2987640" y="3068640"/>
            <a:ext cx="325116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5CA5-5A24-4DE4-B6E3-5E7E9C258091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79280" y="11592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h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95280" y="1628640"/>
          <a:ext cx="8353440" cy="1463760"/>
        </p:xfrm>
        <a:graphic>
          <a:graphicData uri="http://schemas.openxmlformats.org/drawingml/2006/table">
            <a:tbl>
              <a:tblPr/>
              <a:tblGrid>
                <a:gridCol w="3251160"/>
                <a:gridCol w="510228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i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_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 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_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Numb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Picture 42" descr="marketBasket"/>
          <p:cNvPicPr/>
          <p:nvPr/>
        </p:nvPicPr>
        <p:blipFill>
          <a:blip r:embed="rId1"/>
          <a:stretch/>
        </p:blipFill>
        <p:spPr>
          <a:xfrm>
            <a:off x="7908840" y="0"/>
            <a:ext cx="1235160" cy="12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DA72-B2BD-4502-8F14-CBD488545BE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2268360" y="54000"/>
            <a:ext cx="5389920" cy="6750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marketBasket"/>
          <p:cNvPicPr/>
          <p:nvPr/>
        </p:nvPicPr>
        <p:blipFill>
          <a:blip r:embed="rId2"/>
          <a:stretch/>
        </p:blipFill>
        <p:spPr>
          <a:xfrm>
            <a:off x="790884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323640" y="88416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99ff"/>
                </a:solidFill>
                <a:latin typeface="Arial"/>
              </a:rPr>
              <a:t>Frequent Item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DB75-BBAC-40D9-92AC-FA0651072B1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1913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marketBasket"/>
          <p:cNvPicPr/>
          <p:nvPr/>
        </p:nvPicPr>
        <p:blipFill>
          <a:blip r:embed="rId2"/>
          <a:stretch/>
        </p:blipFill>
        <p:spPr>
          <a:xfrm>
            <a:off x="790884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323640" y="88416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99ff"/>
                </a:solidFill>
                <a:latin typeface="Arial"/>
              </a:rPr>
              <a:t>Frequent Item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65A0-04FD-4CF9-99F9-590C3DD79EC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2917800" y="3240"/>
            <a:ext cx="4533840" cy="6851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marketBasket"/>
          <p:cNvPicPr/>
          <p:nvPr/>
        </p:nvPicPr>
        <p:blipFill>
          <a:blip r:embed="rId2"/>
          <a:stretch/>
        </p:blipFill>
        <p:spPr>
          <a:xfrm>
            <a:off x="790884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"/>
          <p:cNvSpPr/>
          <p:nvPr/>
        </p:nvSpPr>
        <p:spPr>
          <a:xfrm>
            <a:off x="327240" y="88416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99ff"/>
                </a:solidFill>
                <a:latin typeface="Arial"/>
              </a:rPr>
              <a:t>Associ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9EE6-421A-4029-833F-8F7EFDCE44B8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Case Studies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Analysis of Spare Parts 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Sales Dat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j0279494"/>
          <p:cNvPicPr/>
          <p:nvPr/>
        </p:nvPicPr>
        <p:blipFill>
          <a:blip r:embed="rId1"/>
          <a:stretch/>
        </p:blipFill>
        <p:spPr>
          <a:xfrm>
            <a:off x="457200" y="3726000"/>
            <a:ext cx="1825560" cy="1376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j0279482"/>
          <p:cNvPicPr/>
          <p:nvPr/>
        </p:nvPicPr>
        <p:blipFill>
          <a:blip r:embed="rId2"/>
          <a:stretch/>
        </p:blipFill>
        <p:spPr>
          <a:xfrm>
            <a:off x="2819520" y="3573360"/>
            <a:ext cx="1823760" cy="1689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j0279478"/>
          <p:cNvPicPr/>
          <p:nvPr/>
        </p:nvPicPr>
        <p:blipFill>
          <a:blip r:embed="rId3"/>
          <a:stretch/>
        </p:blipFill>
        <p:spPr>
          <a:xfrm>
            <a:off x="4952880" y="3726000"/>
            <a:ext cx="1827360" cy="1484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j0279462"/>
          <p:cNvPicPr/>
          <p:nvPr/>
        </p:nvPicPr>
        <p:blipFill>
          <a:blip r:embed="rId4"/>
          <a:stretch/>
        </p:blipFill>
        <p:spPr>
          <a:xfrm>
            <a:off x="7086600" y="3954600"/>
            <a:ext cx="1825560" cy="96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375E-FF30-48DD-A6FE-DF666E97B94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79280" y="11592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h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95280" y="1268280"/>
          <a:ext cx="8353440" cy="4881600"/>
        </p:xfrm>
        <a:graphic>
          <a:graphicData uri="http://schemas.openxmlformats.org/drawingml/2006/table">
            <a:tbl>
              <a:tblPr/>
              <a:tblGrid>
                <a:gridCol w="3251160"/>
                <a:gridCol w="510228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i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t 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_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 (Stock Keeping Unit) Numb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D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dor (Customer) Numb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 of the month (1,...,3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 of the year (1,...,1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(ex: 200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_PR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of one unit of product in YTL</a:t>
                      </a:r>
                      <a:r>
                        <a:rPr b="1" lang="tr-TR" sz="2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 from the order l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Text Box 60"/>
          <p:cNvSpPr/>
          <p:nvPr/>
        </p:nvSpPr>
        <p:spPr>
          <a:xfrm>
            <a:off x="261720" y="6315120"/>
            <a:ext cx="8548920" cy="429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Assumption: Each customer gives at most one order each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4" descr="j0279494"/>
          <p:cNvPicPr/>
          <p:nvPr/>
        </p:nvPicPr>
        <p:blipFill>
          <a:blip r:embed="rId1"/>
          <a:stretch/>
        </p:blipFill>
        <p:spPr>
          <a:xfrm>
            <a:off x="8193240" y="0"/>
            <a:ext cx="950760" cy="7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CF75-5820-4E5B-9516-2B7C012D637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21"/>
          <p:cNvPicPr/>
          <p:nvPr/>
        </p:nvPicPr>
        <p:blipFill>
          <a:blip r:embed="rId1"/>
          <a:srcRect l="0" t="15743" r="21101" b="17746"/>
          <a:stretch/>
        </p:blipFill>
        <p:spPr>
          <a:xfrm>
            <a:off x="144360" y="1271520"/>
            <a:ext cx="8748720" cy="55422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125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3399ff"/>
                </a:solidFill>
                <a:latin typeface="Arial"/>
              </a:rPr>
              <a:t>Determining Top Products:</a:t>
            </a:r>
            <a:br>
              <a:rPr sz="3000"/>
            </a:b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Pivot Table for Determining REVENUE_S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j0279494"/>
          <p:cNvPicPr/>
          <p:nvPr/>
        </p:nvPicPr>
        <p:blipFill>
          <a:blip r:embed="rId2"/>
          <a:stretch/>
        </p:blipFill>
        <p:spPr>
          <a:xfrm>
            <a:off x="8193240" y="0"/>
            <a:ext cx="950760" cy="7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860D-EBCA-42BD-BD17-53D51A951F74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115920"/>
            <a:ext cx="8964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3399ff"/>
                </a:solidFill>
                <a:latin typeface="Arial"/>
              </a:rPr>
              <a:t>Determining Top Products:</a:t>
            </a:r>
            <a:br>
              <a:rPr sz="3000"/>
            </a:b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Pivot Table for Determining COUNT (Frequenc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26"/>
          <p:cNvPicPr/>
          <p:nvPr/>
        </p:nvPicPr>
        <p:blipFill>
          <a:blip r:embed="rId1"/>
          <a:srcRect l="0" t="15177" r="20869" b="17608"/>
          <a:stretch/>
        </p:blipFill>
        <p:spPr>
          <a:xfrm>
            <a:off x="36360" y="1258920"/>
            <a:ext cx="8928360" cy="5699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j0279494"/>
          <p:cNvPicPr/>
          <p:nvPr/>
        </p:nvPicPr>
        <p:blipFill>
          <a:blip r:embed="rId2"/>
          <a:stretch/>
        </p:blipFill>
        <p:spPr>
          <a:xfrm>
            <a:off x="8193240" y="0"/>
            <a:ext cx="950760" cy="7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63A7-97AA-4278-95BC-A4FD3994102A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561440" cy="47278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>
            <a:off x="1258920" y="3860640"/>
            <a:ext cx="2016000" cy="11509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5508720" y="4294080"/>
            <a:ext cx="2016000" cy="11509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1A95-727B-4315-BD5D-679EF1DBF28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32"/>
          <p:cNvPicPr/>
          <p:nvPr/>
        </p:nvPicPr>
        <p:blipFill>
          <a:blip r:embed="rId1"/>
          <a:srcRect l="0" t="15320" r="2742" b="5039"/>
          <a:stretch/>
        </p:blipFill>
        <p:spPr>
          <a:xfrm>
            <a:off x="0" y="1386000"/>
            <a:ext cx="8893080" cy="5472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3"/>
          <p:cNvSpPr/>
          <p:nvPr/>
        </p:nvSpPr>
        <p:spPr>
          <a:xfrm>
            <a:off x="0" y="115920"/>
            <a:ext cx="8964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3399ff"/>
                </a:solidFill>
                <a:latin typeface="Arial"/>
              </a:rPr>
              <a:t>Determining Top Products:</a:t>
            </a:r>
            <a:br>
              <a:rPr sz="3000"/>
            </a:b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Scatter Pl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j0279494"/>
          <p:cNvPicPr/>
          <p:nvPr/>
        </p:nvPicPr>
        <p:blipFill>
          <a:blip r:embed="rId2"/>
          <a:stretch/>
        </p:blipFill>
        <p:spPr>
          <a:xfrm>
            <a:off x="8193240" y="0"/>
            <a:ext cx="950760" cy="7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FD53-BDE9-459B-9A59-E954B0D4BF54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urun_mevsimsellik"/>
          <p:cNvPicPr/>
          <p:nvPr/>
        </p:nvPicPr>
        <p:blipFill>
          <a:blip r:embed="rId1"/>
          <a:stretch/>
        </p:blipFill>
        <p:spPr>
          <a:xfrm>
            <a:off x="0" y="965160"/>
            <a:ext cx="9144000" cy="5272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j0279494"/>
          <p:cNvPicPr/>
          <p:nvPr/>
        </p:nvPicPr>
        <p:blipFill>
          <a:blip r:embed="rId2"/>
          <a:stretch/>
        </p:blipFill>
        <p:spPr>
          <a:xfrm>
            <a:off x="8193240" y="0"/>
            <a:ext cx="950760" cy="7174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4"/>
          <p:cNvSpPr/>
          <p:nvPr/>
        </p:nvSpPr>
        <p:spPr>
          <a:xfrm>
            <a:off x="1908000" y="115920"/>
            <a:ext cx="5400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3399ff"/>
                </a:solidFill>
                <a:latin typeface="Arial"/>
              </a:rPr>
              <a:t>Seasonality of Top Prod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1160" y="595008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2D30-407A-4246-A50F-6939FA294AE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04"/>
          <p:cNvPicPr/>
          <p:nvPr/>
        </p:nvPicPr>
        <p:blipFill>
          <a:blip r:embed="rId1"/>
          <a:srcRect l="0" t="15084" r="21769" b="18401"/>
          <a:stretch/>
        </p:blipFill>
        <p:spPr>
          <a:xfrm>
            <a:off x="142920" y="1133640"/>
            <a:ext cx="8893080" cy="5680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3399ff"/>
                </a:solidFill>
                <a:latin typeface="Arial"/>
              </a:rPr>
              <a:t>Seasonality of Top Customers:</a:t>
            </a:r>
            <a:br>
              <a:rPr sz="3000"/>
            </a:b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Pivot 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j0279494"/>
          <p:cNvPicPr/>
          <p:nvPr/>
        </p:nvPicPr>
        <p:blipFill>
          <a:blip r:embed="rId2"/>
          <a:stretch/>
        </p:blipFill>
        <p:spPr>
          <a:xfrm>
            <a:off x="8193240" y="0"/>
            <a:ext cx="950760" cy="7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30C7-85EA-417C-9379-924ADF4C2121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6"/>
          <p:cNvGraphicFramePr/>
          <p:nvPr/>
        </p:nvGraphicFramePr>
        <p:xfrm>
          <a:off x="-36360" y="1409760"/>
          <a:ext cx="9144000" cy="51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1409760"/>
                    <a:ext cx="91440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7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3399ff"/>
                </a:solidFill>
                <a:latin typeface="Arial"/>
              </a:rPr>
              <a:t>Determining Top Customers:</a:t>
            </a:r>
            <a:br>
              <a:rPr sz="3000"/>
            </a:b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Pareto Curve (ABC Analys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8" descr="j0279494"/>
          <p:cNvPicPr/>
          <p:nvPr/>
        </p:nvPicPr>
        <p:blipFill>
          <a:blip r:embed="rId3"/>
          <a:stretch/>
        </p:blipFill>
        <p:spPr>
          <a:xfrm>
            <a:off x="8193240" y="0"/>
            <a:ext cx="950760" cy="71748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9"/>
          <p:cNvSpPr/>
          <p:nvPr/>
        </p:nvSpPr>
        <p:spPr>
          <a:xfrm>
            <a:off x="1114560" y="6237360"/>
            <a:ext cx="7561080" cy="360360"/>
          </a:xfrm>
          <a:prstGeom prst="rtTriangl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1114560" y="62611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ccecff"/>
                </a:solidFill>
                <a:latin typeface="Arial"/>
              </a:rPr>
              <a:t>Reve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3557-E1B1-4B65-BF53-1D262452D45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18"/>
          <p:cNvPicPr/>
          <p:nvPr/>
        </p:nvPicPr>
        <p:blipFill>
          <a:blip r:embed="rId1"/>
          <a:srcRect l="0" t="0" r="0" b="10310"/>
          <a:stretch/>
        </p:blipFill>
        <p:spPr>
          <a:xfrm>
            <a:off x="34920" y="-27000"/>
            <a:ext cx="9180360" cy="688968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"/>
          <p:cNvSpPr/>
          <p:nvPr/>
        </p:nvSpPr>
        <p:spPr>
          <a:xfrm>
            <a:off x="1403280" y="-27000"/>
            <a:ext cx="6985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3399ff"/>
                </a:solidFill>
                <a:latin typeface="Arial"/>
              </a:rPr>
              <a:t>Seasonality of Top Customers:</a:t>
            </a:r>
            <a:br>
              <a:rPr sz="3400"/>
            </a:br>
            <a:r>
              <a:rPr b="1" lang="tr-TR" sz="3400" spc="-1" strike="noStrike">
                <a:solidFill>
                  <a:srgbClr val="000000"/>
                </a:solidFill>
                <a:latin typeface="Arial"/>
              </a:rPr>
              <a:t>Starfield Visualiz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j0279494"/>
          <p:cNvPicPr/>
          <p:nvPr/>
        </p:nvPicPr>
        <p:blipFill>
          <a:blip r:embed="rId2"/>
          <a:stretch/>
        </p:blipFill>
        <p:spPr>
          <a:xfrm>
            <a:off x="8193240" y="0"/>
            <a:ext cx="950760" cy="7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34CA-B14D-4714-9A24-E3FFB41B223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Case Studies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Analysis of ÖSS 2004 D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pencil"/>
          <p:cNvPicPr/>
          <p:nvPr/>
        </p:nvPicPr>
        <p:blipFill>
          <a:blip r:embed="rId1"/>
          <a:stretch/>
        </p:blipFill>
        <p:spPr>
          <a:xfrm>
            <a:off x="2700360" y="314172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D586-D980-4329-8ABD-305C9E3641A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179280" y="11592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h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39640" y="1549440"/>
          <a:ext cx="8136000" cy="4616280"/>
        </p:xfrm>
        <a:graphic>
          <a:graphicData uri="http://schemas.openxmlformats.org/drawingml/2006/table">
            <a:tbl>
              <a:tblPr/>
              <a:tblGrid>
                <a:gridCol w="3167280"/>
                <a:gridCol w="496872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_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School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_TYPE_TEX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School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_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_D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 Depar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_S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 According to Sayısal Sc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Picture 35" descr="pencil"/>
          <p:cNvPicPr/>
          <p:nvPr/>
        </p:nvPicPr>
        <p:blipFill>
          <a:blip r:embed="rId1"/>
          <a:srcRect l="0" t="16629" r="40608" b="16629"/>
          <a:stretch/>
        </p:blipFill>
        <p:spPr>
          <a:xfrm>
            <a:off x="8172360" y="0"/>
            <a:ext cx="97164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60B6-BC27-44EB-B9F4-7A6045C8EB2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fig03"/>
          <p:cNvPicPr/>
          <p:nvPr/>
        </p:nvPicPr>
        <p:blipFill>
          <a:blip r:embed="rId1"/>
          <a:stretch/>
        </p:blipFill>
        <p:spPr>
          <a:xfrm>
            <a:off x="1295280" y="1606680"/>
            <a:ext cx="7772400" cy="5207040"/>
          </a:xfrm>
          <a:prstGeom prst="rect">
            <a:avLst/>
          </a:prstGeom>
          <a:ln w="0">
            <a:noFill/>
          </a:ln>
        </p:spPr>
      </p:pic>
      <p:sp>
        <p:nvSpPr>
          <p:cNvPr id="311" name="Line 3"/>
          <p:cNvSpPr/>
          <p:nvPr/>
        </p:nvSpPr>
        <p:spPr>
          <a:xfrm>
            <a:off x="129528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 flipV="1">
            <a:off x="1295280" y="980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"/>
          <p:cNvSpPr/>
          <p:nvPr/>
        </p:nvSpPr>
        <p:spPr>
          <a:xfrm flipV="1">
            <a:off x="9067680" y="1010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"/>
          <p:cNvSpPr/>
          <p:nvPr/>
        </p:nvSpPr>
        <p:spPr>
          <a:xfrm>
            <a:off x="1371600" y="1378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 flipV="1">
            <a:off x="1371600" y="1377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"/>
          <p:cNvSpPr/>
          <p:nvPr/>
        </p:nvSpPr>
        <p:spPr>
          <a:xfrm flipV="1">
            <a:off x="5181480" y="1377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2513520" y="10731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tr-TR" sz="1800" spc="-1" strike="noStrike" baseline="30000">
                <a:solidFill>
                  <a:srgbClr val="000000"/>
                </a:solidFill>
                <a:latin typeface="Arial"/>
              </a:rPr>
              <a:t>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2516040" y="685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1143000" y="1987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2"/>
          <p:cNvSpPr/>
          <p:nvPr/>
        </p:nvSpPr>
        <p:spPr>
          <a:xfrm>
            <a:off x="1143000" y="229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3"/>
          <p:cNvSpPr/>
          <p:nvPr/>
        </p:nvSpPr>
        <p:spPr>
          <a:xfrm>
            <a:off x="1143000" y="1987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840240" y="19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 flipV="1">
            <a:off x="533520" y="16063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6"/>
          <p:cNvSpPr/>
          <p:nvPr/>
        </p:nvSpPr>
        <p:spPr>
          <a:xfrm>
            <a:off x="533520" y="160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>
            <a:off x="533520" y="6788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154080" y="1987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9"/>
          <p:cNvSpPr/>
          <p:nvPr/>
        </p:nvSpPr>
        <p:spPr>
          <a:xfrm>
            <a:off x="1143000" y="2673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0"/>
          <p:cNvSpPr/>
          <p:nvPr/>
        </p:nvSpPr>
        <p:spPr>
          <a:xfrm>
            <a:off x="1143000" y="2901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1"/>
          <p:cNvSpPr/>
          <p:nvPr/>
        </p:nvSpPr>
        <p:spPr>
          <a:xfrm>
            <a:off x="1143000" y="2673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839520" y="2597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>
            <a:off x="1143000" y="38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4"/>
          <p:cNvSpPr/>
          <p:nvPr/>
        </p:nvSpPr>
        <p:spPr>
          <a:xfrm>
            <a:off x="1143000" y="4730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5"/>
          <p:cNvSpPr/>
          <p:nvPr/>
        </p:nvSpPr>
        <p:spPr>
          <a:xfrm>
            <a:off x="1143000" y="3816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6"/>
          <p:cNvSpPr/>
          <p:nvPr/>
        </p:nvSpPr>
        <p:spPr>
          <a:xfrm>
            <a:off x="554040" y="4121280"/>
            <a:ext cx="59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tr-TR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tr-TR" sz="1800" spc="-1" strike="noStrike" baseline="30000">
                <a:solidFill>
                  <a:srgbClr val="000000"/>
                </a:solidFill>
                <a:latin typeface="Arial"/>
              </a:rPr>
              <a:t>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0"/>
          <p:cNvSpPr/>
          <p:nvPr/>
        </p:nvSpPr>
        <p:spPr>
          <a:xfrm>
            <a:off x="45720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Pareto Squ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1" descr="pencil"/>
          <p:cNvPicPr/>
          <p:nvPr/>
        </p:nvPicPr>
        <p:blipFill>
          <a:blip r:embed="rId2"/>
          <a:srcRect l="0" t="16629" r="40608" b="16629"/>
          <a:stretch/>
        </p:blipFill>
        <p:spPr>
          <a:xfrm>
            <a:off x="8172360" y="0"/>
            <a:ext cx="97164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053D-49F6-4A89-AE0D-A20B4B4ABA7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457200" y="12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Pareto Squares: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Model 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6" descr="definitions"/>
          <p:cNvPicPr/>
          <p:nvPr/>
        </p:nvPicPr>
        <p:blipFill>
          <a:blip r:embed="rId1"/>
          <a:srcRect l="0" t="0" r="0" b="4199"/>
          <a:stretch/>
        </p:blipFill>
        <p:spPr>
          <a:xfrm>
            <a:off x="1187280" y="1413000"/>
            <a:ext cx="6905880" cy="5256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pencil"/>
          <p:cNvPicPr/>
          <p:nvPr/>
        </p:nvPicPr>
        <p:blipFill>
          <a:blip r:embed="rId2"/>
          <a:srcRect l="0" t="16629" r="40608" b="16629"/>
          <a:stretch/>
        </p:blipFill>
        <p:spPr>
          <a:xfrm>
            <a:off x="8172360" y="0"/>
            <a:ext cx="97164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DBBA-95A8-410D-949E-7AC8DDD3FC7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model"/>
          <p:cNvPicPr/>
          <p:nvPr/>
        </p:nvPicPr>
        <p:blipFill>
          <a:blip r:embed="rId1"/>
          <a:srcRect l="0" t="0" r="0" b="1756"/>
          <a:stretch/>
        </p:blipFill>
        <p:spPr>
          <a:xfrm>
            <a:off x="755640" y="1270080"/>
            <a:ext cx="7632720" cy="55879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5"/>
          <p:cNvSpPr/>
          <p:nvPr/>
        </p:nvSpPr>
        <p:spPr>
          <a:xfrm>
            <a:off x="457200" y="12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Pareto Squares: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Optimiz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pencil"/>
          <p:cNvPicPr/>
          <p:nvPr/>
        </p:nvPicPr>
        <p:blipFill>
          <a:blip r:embed="rId2"/>
          <a:srcRect l="0" t="16629" r="40608" b="16629"/>
          <a:stretch/>
        </p:blipFill>
        <p:spPr>
          <a:xfrm>
            <a:off x="8172360" y="0"/>
            <a:ext cx="97164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6A70-7583-4C23-AFEA-61E5D108FDB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1341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he Marketing Perspective</a:t>
            </a:r>
            <a:br>
              <a:rPr sz="3600"/>
            </a:br>
            <a:br>
              <a:rPr sz="3600"/>
            </a:br>
            <a:r>
              <a:rPr b="1" lang="tr-TR" sz="2200" spc="-1" strike="noStrike">
                <a:solidFill>
                  <a:srgbClr val="3399ff"/>
                </a:solidFill>
                <a:latin typeface="Arial"/>
              </a:rPr>
              <a:t>CAMPAIGN MANAGEMENT</a:t>
            </a:r>
            <a:br>
              <a:rPr sz="2200"/>
            </a:br>
            <a:br>
              <a:rPr sz="1200"/>
            </a:br>
            <a:r>
              <a:rPr b="1" lang="tr-TR" sz="2200" spc="-1" strike="noStrike">
                <a:solidFill>
                  <a:srgbClr val="3399ff"/>
                </a:solidFill>
                <a:latin typeface="Arial"/>
              </a:rPr>
              <a:t>RECENCY FREQUENCY MONETARY VALUE METHOD</a:t>
            </a:r>
            <a:br>
              <a:rPr sz="1200"/>
            </a:br>
            <a:br>
              <a:rPr sz="1200"/>
            </a:br>
            <a:r>
              <a:rPr b="1" lang="tr-TR" sz="2200" spc="-1" strike="noStrike">
                <a:solidFill>
                  <a:srgbClr val="3399ff"/>
                </a:solidFill>
                <a:latin typeface="Arial"/>
              </a:rPr>
              <a:t>CUSTOMER VALUE METRICS</a:t>
            </a:r>
            <a:br>
              <a:rPr sz="3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916360" y="3500280"/>
            <a:ext cx="3695400" cy="29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CCDF-88CB-4200-8A18-4160C6CF458F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fig02"/>
          <p:cNvPicPr/>
          <p:nvPr/>
        </p:nvPicPr>
        <p:blipFill>
          <a:blip r:embed="rId1"/>
          <a:srcRect l="0" t="0" r="0" b="995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457200" y="12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General Ins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6" descr="pencil"/>
          <p:cNvPicPr/>
          <p:nvPr/>
        </p:nvPicPr>
        <p:blipFill>
          <a:blip r:embed="rId2"/>
          <a:srcRect l="0" t="16629" r="40608" b="16629"/>
          <a:stretch/>
        </p:blipFill>
        <p:spPr>
          <a:xfrm>
            <a:off x="8172360" y="0"/>
            <a:ext cx="97164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E6F4-F3F6-4711-B129-3C073D6891DF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fig03"/>
          <p:cNvPicPr/>
          <p:nvPr/>
        </p:nvPicPr>
        <p:blipFill>
          <a:blip r:embed="rId1"/>
          <a:srcRect l="0" t="0" r="0" b="7491"/>
          <a:stretch/>
        </p:blipFill>
        <p:spPr>
          <a:xfrm>
            <a:off x="0" y="1217520"/>
            <a:ext cx="9144000" cy="56674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4"/>
          <p:cNvSpPr/>
          <p:nvPr/>
        </p:nvSpPr>
        <p:spPr>
          <a:xfrm>
            <a:off x="457200" y="12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Benchmarking High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" descr="pencil"/>
          <p:cNvPicPr/>
          <p:nvPr/>
        </p:nvPicPr>
        <p:blipFill>
          <a:blip r:embed="rId2"/>
          <a:srcRect l="0" t="16629" r="40608" b="16629"/>
          <a:stretch/>
        </p:blipFill>
        <p:spPr>
          <a:xfrm>
            <a:off x="8172360" y="0"/>
            <a:ext cx="97164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8C17-805B-4D1F-B7E9-1919A82DF58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fig04"/>
          <p:cNvPicPr/>
          <p:nvPr/>
        </p:nvPicPr>
        <p:blipFill>
          <a:blip r:embed="rId1"/>
          <a:srcRect l="0" t="0" r="0" b="8685"/>
          <a:stretch/>
        </p:blipFill>
        <p:spPr>
          <a:xfrm>
            <a:off x="0" y="1265400"/>
            <a:ext cx="9144000" cy="55926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4"/>
          <p:cNvSpPr/>
          <p:nvPr/>
        </p:nvSpPr>
        <p:spPr>
          <a:xfrm>
            <a:off x="457200" y="12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Benchmarking Depart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5" descr="pencil"/>
          <p:cNvPicPr/>
          <p:nvPr/>
        </p:nvPicPr>
        <p:blipFill>
          <a:blip r:embed="rId2"/>
          <a:srcRect l="0" t="16629" r="40608" b="16629"/>
          <a:stretch/>
        </p:blipFill>
        <p:spPr>
          <a:xfrm>
            <a:off x="8172360" y="0"/>
            <a:ext cx="97164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206C-0D7E-4ABD-A124-52C16F41A2F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fig05"/>
          <p:cNvPicPr/>
          <p:nvPr/>
        </p:nvPicPr>
        <p:blipFill>
          <a:blip r:embed="rId1"/>
          <a:srcRect l="0" t="0" r="0" b="8681"/>
          <a:stretch/>
        </p:blipFill>
        <p:spPr>
          <a:xfrm>
            <a:off x="0" y="1262160"/>
            <a:ext cx="9144000" cy="559584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457200" y="12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Relationship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5" descr="pencil"/>
          <p:cNvPicPr/>
          <p:nvPr/>
        </p:nvPicPr>
        <p:blipFill>
          <a:blip r:embed="rId2"/>
          <a:srcRect l="0" t="16629" r="40608" b="16629"/>
          <a:stretch/>
        </p:blipFill>
        <p:spPr>
          <a:xfrm>
            <a:off x="8172360" y="0"/>
            <a:ext cx="97164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FD45-F130-44CF-99B9-D6F133C4F16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9280" y="11592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ampaign Management: 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he Marketing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57200" y="156672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velop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ffective campaign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f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ctively predicting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taining existing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qui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4677-6BDE-4758-B485-D0A8771AE3A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"/>
          <p:cNvSpPr/>
          <p:nvPr/>
        </p:nvSpPr>
        <p:spPr>
          <a:xfrm>
            <a:off x="755640" y="1413000"/>
            <a:ext cx="3745080" cy="23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Understand market and consumers’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needs and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Exploit customer intelligen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Perform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5076720" y="1413000"/>
            <a:ext cx="3743280" cy="23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( Offer is develope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Define market strate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Use channe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755640" y="4437000"/>
            <a:ext cx="3743280" cy="230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Retain customers 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Loyalty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Service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5076720" y="4437000"/>
            <a:ext cx="3743280" cy="230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Arial"/>
              </a:rPr>
              <a:t>S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Acquire 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Use sales force effec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Develop marketing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79280" y="11592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ampaign Management: 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he Cap Gemini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4067280" y="5227560"/>
            <a:ext cx="1009440" cy="647640"/>
          </a:xfrm>
          <a:prstGeom prst="leftArrow">
            <a:avLst>
              <a:gd name="adj1" fmla="val 50000"/>
              <a:gd name="adj2" fmla="val 3896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 rot="5400000">
            <a:off x="2160360" y="3681000"/>
            <a:ext cx="863640" cy="648000"/>
          </a:xfrm>
          <a:prstGeom prst="leftArrow">
            <a:avLst>
              <a:gd name="adj1" fmla="val 50000"/>
              <a:gd name="adj2" fmla="val 3331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 rot="10800000">
            <a:off x="4500360" y="2204640"/>
            <a:ext cx="936360" cy="647640"/>
          </a:xfrm>
          <a:prstGeom prst="leftArrow">
            <a:avLst>
              <a:gd name="adj1" fmla="val 50000"/>
              <a:gd name="adj2" fmla="val 361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 flipV="1" rot="16200000">
            <a:off x="6444000" y="3787920"/>
            <a:ext cx="792360" cy="647640"/>
          </a:xfrm>
          <a:prstGeom prst="leftArrow">
            <a:avLst>
              <a:gd name="adj1" fmla="val 50000"/>
              <a:gd name="adj2" fmla="val 3058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8BE8-F4A3-4FE1-A63D-D7AECB99057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he marketing manager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fines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dentifies custom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fines communication strate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signs/improves products/offers/services/promo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sts the impacts of her deci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vises her decisions for maximum effectiv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79280" y="11592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99ff"/>
                </a:solidFill>
                <a:latin typeface="Arial"/>
              </a:rPr>
              <a:t>Campaign Management: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he Marketing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21:06:15Z</dcterms:created>
  <dc:creator/>
  <dc:description/>
  <dc:language>en-US</dc:language>
  <cp:lastModifiedBy>Bright</cp:lastModifiedBy>
  <dcterms:modified xsi:type="dcterms:W3CDTF">2013-08-22T13:07:30Z</dcterms:modified>
  <cp:revision>191</cp:revision>
  <dc:subject/>
  <dc:title>CUSTOMER RELATIONSHIP MANAGEMENT</dc:title>
</cp:coreProperties>
</file>